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0920" y="-6840"/>
            <a:ext cx="6324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837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040" y="3663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90920" y="-6840"/>
            <a:ext cx="6324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837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13720" y="837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040" y="3663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13720" y="3663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90920" y="-6840"/>
            <a:ext cx="6324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040" y="837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9440" y="837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4840" y="837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040" y="3663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19440" y="3663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4840" y="3663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8803-7C60-4397-8FD2-4A22087C1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90920" y="-6840"/>
            <a:ext cx="6324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8377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BECE-432E-4A21-8DEC-FB8A76AF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90920" y="-6840"/>
            <a:ext cx="6324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8377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E09A-7238-4510-AD74-E12679B1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0920" y="-6840"/>
            <a:ext cx="6324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837720"/>
            <a:ext cx="3904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837720"/>
            <a:ext cx="3904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2260-1714-4F2E-8145-B4C7052B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90920" y="-6840"/>
            <a:ext cx="6324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F303-4D60-4606-9552-2BF272CB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590920" y="68400"/>
            <a:ext cx="63244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40D4-5B6F-43DD-B9FC-AF172BD8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90920" y="-6840"/>
            <a:ext cx="6324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837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837720"/>
            <a:ext cx="3904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3663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6A51-5F24-41CF-9DB6-0AC29FEC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90920" y="-6840"/>
            <a:ext cx="6324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040" y="8377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90920" y="-6840"/>
            <a:ext cx="6324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837720"/>
            <a:ext cx="3904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837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3663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C20C-E9E1-4FAA-838E-243704D6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90920" y="-6840"/>
            <a:ext cx="6324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837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837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3663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F96C-CD50-4994-8B0F-D71FF462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90920" y="-6840"/>
            <a:ext cx="6324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837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3663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C97A-D292-4D0D-BC40-D38CB47E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90920" y="-6840"/>
            <a:ext cx="6324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837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837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3663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3663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8B57-74F5-4283-931F-4887BDF56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-6840"/>
            <a:ext cx="6324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837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837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837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3663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3663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3663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B88C-453F-4C1A-85F8-C39C398BC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90920" y="-6840"/>
            <a:ext cx="6324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8377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90920" y="-6840"/>
            <a:ext cx="6324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837720"/>
            <a:ext cx="3904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3720" y="837720"/>
            <a:ext cx="3904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90920" y="-6840"/>
            <a:ext cx="6324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590920" y="68400"/>
            <a:ext cx="63244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90920" y="-6840"/>
            <a:ext cx="6324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837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3720" y="837720"/>
            <a:ext cx="3904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040" y="3663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90920" y="-6840"/>
            <a:ext cx="6324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837720"/>
            <a:ext cx="3904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3720" y="837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13720" y="3663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90920" y="-6840"/>
            <a:ext cx="6324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837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3720" y="837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040" y="3663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590920" cy="6858000"/>
            <a:chOff x="0" y="0"/>
            <a:chExt cx="259092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190512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533520"/>
            <a:ext cx="5105160" cy="10666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590920" y="6840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8377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380520" y="6400800"/>
            <a:ext cx="7391520" cy="304920"/>
            <a:chOff x="380520" y="6400800"/>
            <a:chExt cx="7391520" cy="304920"/>
          </a:xfrm>
        </p:grpSpPr>
        <p:sp>
          <p:nvSpPr>
            <p:cNvPr id="7" name=""/>
            <p:cNvSpPr/>
            <p:nvPr/>
          </p:nvSpPr>
          <p:spPr>
            <a:xfrm>
              <a:off x="761760" y="6400800"/>
              <a:ext cx="7010280" cy="3031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380160" y="6400800"/>
              <a:ext cx="393480" cy="3049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8001000" y="6400800"/>
            <a:ext cx="914400" cy="303120"/>
          </a:xfrm>
          <a:prstGeom prst="roundRect">
            <a:avLst>
              <a:gd name="adj" fmla="val 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707960" y="6346800"/>
            <a:ext cx="14868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EE37-6A6C-4E4C-8A61-56A6D3A31418}" type="slidenum">
              <a:rPr b="1" lang="en-US" sz="2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358128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632040" y="5396040"/>
            <a:ext cx="4876920" cy="318960"/>
            <a:chOff x="3632040" y="5396040"/>
            <a:chExt cx="4876920" cy="318960"/>
          </a:xfrm>
        </p:grpSpPr>
        <p:sp>
          <p:nvSpPr>
            <p:cNvPr id="50" name=""/>
            <p:cNvSpPr/>
            <p:nvPr/>
          </p:nvSpPr>
          <p:spPr>
            <a:xfrm flipH="1">
              <a:off x="3632040" y="539604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248680" y="539604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dt" idx="1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2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3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B83B-F49F-4B57-9064-D09FE896D52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Esercizio: un programma 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he gioca poker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657600" y="3433320"/>
            <a:ext cx="3657600" cy="18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90920" y="6840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nalisi del problem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8377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Si intende realizzare un programma Java con il quale sia possibile simulare una partita a poker  di  4 giocator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Il progetto prevede che i giocatori siano tutti simulati dal comput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I giocatori adotteranno una strategia completamente casuale gettando sul tavolo una qualsiasi delle proprie car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L'interfaccia deve mostrare le azioni dei giocatori, le carte che essi possiedono e le carte in tavol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E' sufficiente una intefaccia testua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90920" y="6840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nalisi del problem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8377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Si deve realizzare il progetto supponendo che il programma sia solo un primo modulo di un software più complesso nel  quale si possa giocare a giochi diversi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Possibili estension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altri giochi;  tre sette, bridìscola, ramino, 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numero diverso di giocator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interfaccia grafic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carte diverse: napoletane, carte da 52 carte, 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alcuni giocatori sono realizzati da utenti del program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giocatori automatici capaci di usare strategie non casuali per scegliere le carte da gioca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90920" y="6840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 concetti coinvolt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19320" y="1295280"/>
            <a:ext cx="7086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I concetti da modellare son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Le cart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Il mazzo di cart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I giocatori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Le giocat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La parti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0920" y="6840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Le classi e i metod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Car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getSeme(), getNumero(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MazzoDiCarte (modella un mazzo generico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mischia(), prendiCarta(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MazzoDa40Cart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MazzoDa52Car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GiocatoreAstrat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Osserva(Mossa ms), giocaCarte() , prendiCarte(HashSet Cart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GiocatoreDiPokerAstrat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decidiPuntata(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UnGiocaoreDiPok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0920" y="6840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Le classi e i metod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Mossa (modella le mosse posslbili dei giocatori, passare, rilanciare, vedere, …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getQuantita(), getTipo(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PartitaDiPoker </a:t>
            </a:r>
            <a:br>
              <a:rPr sz="2400"/>
            </a:b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(modella una partita e contiene i giocatori, il mazzo, il piatto,.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3T09:23:47Z</dcterms:created>
  <dc:creator>Fabrizio</dc:creator>
  <dc:description/>
  <dc:language>en-US</dc:language>
  <cp:lastModifiedBy>franco</cp:lastModifiedBy>
  <dcterms:modified xsi:type="dcterms:W3CDTF">2003-06-12T17:11:04Z</dcterms:modified>
  <cp:revision>439</cp:revision>
  <dc:subject/>
  <dc:title>Presentazione di PowerPoint</dc:title>
</cp:coreProperties>
</file>