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26792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807000"/>
            <a:ext cx="264924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0700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267920"/>
            <a:ext cx="401508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7000"/>
            <a:ext cx="82281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22862" h="1694">
                <a:moveTo>
                  <a:pt x="0" y="1693"/>
                </a:moveTo>
                <a:lnTo>
                  <a:pt x="0" y="0"/>
                </a:lnTo>
                <a:lnTo>
                  <a:pt x="22861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81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19320"/>
            <a:ext cx="7926480" cy="914400"/>
          </a:xfrm>
          <a:custGeom>
            <a:avLst/>
            <a:gdLst/>
            <a:ahLst/>
            <a:rect l="l" t="t" r="r" b="b"/>
            <a:pathLst>
              <a:path w="22016" h="2541">
                <a:moveTo>
                  <a:pt x="0" y="2540"/>
                </a:moveTo>
                <a:lnTo>
                  <a:pt x="0" y="0"/>
                </a:lnTo>
                <a:lnTo>
                  <a:pt x="22015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gutini@dii.unisi.it" TargetMode="External"/><Relationship Id="rId2" Type="http://schemas.openxmlformats.org/officeDocument/2006/relationships/hyperlink" Target="http://www.dii.unisi.it/~rigutini/" TargetMode="External"/><Relationship Id="rId3" Type="http://schemas.openxmlformats.org/officeDocument/2006/relationships/hyperlink" Target="mailto:sarti@dii.unisi.it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991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ila di inter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81080" y="3962520"/>
            <a:ext cx="3275280" cy="1751040"/>
            <a:chOff x="1981080" y="3962520"/>
            <a:chExt cx="3275280" cy="1751040"/>
          </a:xfrm>
        </p:grpSpPr>
        <p:sp>
          <p:nvSpPr>
            <p:cNvPr id="83" name=""/>
            <p:cNvSpPr/>
            <p:nvPr/>
          </p:nvSpPr>
          <p:spPr>
            <a:xfrm>
              <a:off x="1981080" y="3962520"/>
              <a:ext cx="327528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3962520"/>
              <a:ext cx="327528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eonardo Riguti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partimento Ingegneria dell’Inform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versità di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ia Roma 56 – 53100 –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ff. 05772336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rigutini@dii.unisi.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http://www.dii.unisi.it/~rigutini/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486400" y="4038480"/>
            <a:ext cx="3274920" cy="1751040"/>
            <a:chOff x="5486400" y="4038480"/>
            <a:chExt cx="3274920" cy="1751040"/>
          </a:xfrm>
        </p:grpSpPr>
        <p:sp>
          <p:nvSpPr>
            <p:cNvPr id="86" name=""/>
            <p:cNvSpPr/>
            <p:nvPr/>
          </p:nvSpPr>
          <p:spPr>
            <a:xfrm>
              <a:off x="5486400" y="4038480"/>
              <a:ext cx="327492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6400" y="4038480"/>
              <a:ext cx="327492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orenzo S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partimento Ingegneria dell’Inform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versità di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ia Roma 56 – 53100 – SIE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ff. 05772336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sarti@dii.unisi.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Eserciz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ettare una’applicazione che emula una pila di in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dovranno realizzare due classi, una che implementa la pila e una che contiene il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l main dovrà essere contenuto il codice per fare un test della p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7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e un oggetto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7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empirlo con dei num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7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mpare il conte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sempio: Gestione Pil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pila è una struttura dati astratta di tipo LIFO (Last In First Out). L’ultimo elemento ad entrare è il primo ad usc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pila può essere realizzata mediante un array, che contiene gli elementi della pila, ed una variabile intera che contiene l’indice del vettore che corrisponde alla t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962520"/>
            <a:ext cx="3886200" cy="609480"/>
          </a:xfrm>
          <a:prstGeom prst="roundRect">
            <a:avLst>
              <a:gd name="adj" fmla="val 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6252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96252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96252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96252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9625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962520"/>
            <a:ext cx="1066680" cy="609480"/>
          </a:xfrm>
          <a:prstGeom prst="roundRect">
            <a:avLst>
              <a:gd name="adj" fmla="val 259"/>
            </a:avLst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3960" y="4606920"/>
            <a:ext cx="333720" cy="4492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449280"/>
              <a:gd name="textAreaBottom" fmla="*/ 448920 h 449280"/>
            </a:gdLst>
            <a:ahLst/>
            <a:rect l="textAreaLeft" t="textAreaTop" r="textAreaRight" b="textAreaBottom"/>
            <a:pathLst>
              <a:path w="21600" h="29072">
                <a:moveTo>
                  <a:pt x="110" y="0"/>
                </a:moveTo>
                <a:arcTo wR="110" hR="110" stAng="16200000" swAng="-5400000"/>
                <a:lnTo>
                  <a:pt x="0" y="28962"/>
                </a:lnTo>
                <a:arcTo wR="110" hR="110" stAng="10800000" swAng="-5400000"/>
                <a:lnTo>
                  <a:pt x="21490" y="29072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3280" y="4606920"/>
            <a:ext cx="333720" cy="449280"/>
          </a:xfrm>
          <a:custGeom>
            <a:avLst/>
            <a:gdLst>
              <a:gd name="textAreaLeft" fmla="*/ 360 w 333720"/>
              <a:gd name="textAreaRight" fmla="*/ 333360 w 333720"/>
              <a:gd name="textAreaTop" fmla="*/ 360 h 449280"/>
              <a:gd name="textAreaBottom" fmla="*/ 448920 h 449280"/>
            </a:gdLst>
            <a:ahLst/>
            <a:rect l="textAreaLeft" t="textAreaTop" r="textAreaRight" b="textAreaBottom"/>
            <a:pathLst>
              <a:path w="21600" h="29072">
                <a:moveTo>
                  <a:pt x="110" y="0"/>
                </a:moveTo>
                <a:arcTo wR="110" hR="110" stAng="16200000" swAng="-5400000"/>
                <a:lnTo>
                  <a:pt x="0" y="28962"/>
                </a:lnTo>
                <a:arcTo wR="110" hR="110" stAng="10800000" swAng="-5400000"/>
                <a:lnTo>
                  <a:pt x="21490" y="29072"/>
                </a:lnTo>
                <a:arcTo wR="110" hR="110" stAng="5400000" swAng="-5400000"/>
                <a:lnTo>
                  <a:pt x="21600" y="110"/>
                </a:lnTo>
                <a:arcTo wR="110" hR="11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4600" y="4606920"/>
            <a:ext cx="757440" cy="449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6960" y="4606920"/>
            <a:ext cx="1623240" cy="4492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_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ggetto Pil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oggetto pila può essere implementato utilizzando tre attribu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ray che contiene la p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ariabile intera che contiene il valore di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ariabile intera che contiene il valore di max_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, la gestione di una pila prevede le tre seguenti opera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- inserimento in testa di un nuovo 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- estrazione dell’elemento di testa e sua cancel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- lettura della t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ascuna operazione dovrà avere un suo metodo associ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strutto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imensione della pila dovrà essere stabilita dinamicamente (il costruttore dovrà ricevere, come parametro, quanti sono gli elementi massimi che possono essere ospitati nella pi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elementi del vettore che occupano una posizione successiva ad head (quindi gli elementi non utilizzati) saranno inizializzati al valore di default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attribut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_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vranno essere opportunamente inizializz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put da tastier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7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vate static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ggiInteroDaTastiera(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OExcepti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="";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//Inizializzazione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(char)System.in.read();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//Lettura di un singolo carat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!='\n'){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//La lettura prosegue finché non si preme in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+=String.valueOf(c);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/*Aggiunta del carattere letto alla stringa ch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ntiene la sequenza di caratteri inserita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(char)System.in.read();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//Lettura di un singolo carat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=Integer.parseInt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etodi </a:t>
            </a: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isEmpty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 ) e </a:t>
            </a: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isFull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 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etodi isEmpty() ed isFull() devono verificare se la pila contiene almeno un elemento e se la pila è piena, rispet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ono restituire un tipo di dat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determinare se la pila è vuota o piena è utile verificare il valore di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etodo </a:t>
            </a: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Push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( 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5388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 metodo Push() inserisce un nuovo elemento nella p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 la pila NON è pi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legge un nuovo numero da tast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aggiorna il valore di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inserisce il nuovo numero nella posizione indicata da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funzione ritorna il valo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r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funzione ritorna il valo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 metodo può essere implementato sfruttando il metodo isFull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etodo </a:t>
            </a: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Pop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( 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Pop( ) estrae la testa dell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la pila non è vuo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alva in una variabile temporanea il valore della t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lemento corrispondente alla testa viene “cancellato” assegnandogli il valore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ttributo head viene aggior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restituisce il valore della variabile tempor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rim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isualizza il messaggio Pila v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restituisce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può essere implementato sfruttando il metodo isEmpty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etodo </a:t>
            </a: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Top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( 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etodo Top () restituisce il valore contenuto nella testa della p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la pila non è vu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restituisce il valore contenuto nella testa della pila (si sfrutta l’indice memorizzato in h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r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isulizza il messaggio Pila v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restituisce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ione</cp:lastModifiedBy>
  <dcterms:modified xsi:type="dcterms:W3CDTF">2008-02-20T11:59:29Z</dcterms:modified>
  <cp:revision>5</cp:revision>
  <dc:subject/>
  <dc:title>Gestione pila</dc:title>
</cp:coreProperties>
</file>