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7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816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07000"/>
            <a:ext cx="822816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7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401508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267920"/>
            <a:ext cx="401508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07000"/>
            <a:ext cx="401508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807000"/>
            <a:ext cx="401508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7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264924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267920"/>
            <a:ext cx="264924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267920"/>
            <a:ext cx="264924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07000"/>
            <a:ext cx="264924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807000"/>
            <a:ext cx="264924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807000"/>
            <a:ext cx="264924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7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67920"/>
            <a:ext cx="8228160" cy="48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7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8160" cy="48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7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4015080" cy="48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3520" y="1267920"/>
            <a:ext cx="4015080" cy="48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7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8160" cy="358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7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401508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3520" y="1267920"/>
            <a:ext cx="4015080" cy="48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807000"/>
            <a:ext cx="401508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7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67920"/>
            <a:ext cx="8228160" cy="48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7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4015080" cy="48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3520" y="1267920"/>
            <a:ext cx="401508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3520" y="3807000"/>
            <a:ext cx="401508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7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401508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3520" y="1267920"/>
            <a:ext cx="401508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807000"/>
            <a:ext cx="822816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7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816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807000"/>
            <a:ext cx="822816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7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401508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3520" y="1267920"/>
            <a:ext cx="401508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07000"/>
            <a:ext cx="401508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3520" y="3807000"/>
            <a:ext cx="401508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7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264924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280" y="1267920"/>
            <a:ext cx="264924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1360" y="1267920"/>
            <a:ext cx="264924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807000"/>
            <a:ext cx="264924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280" y="3807000"/>
            <a:ext cx="264924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1360" y="3807000"/>
            <a:ext cx="264924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7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8160" cy="48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7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4015080" cy="48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267920"/>
            <a:ext cx="4015080" cy="48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7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8160" cy="358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7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401508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267920"/>
            <a:ext cx="4015080" cy="48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07000"/>
            <a:ext cx="401508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7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4015080" cy="48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267920"/>
            <a:ext cx="401508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807000"/>
            <a:ext cx="401508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7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401508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267920"/>
            <a:ext cx="401508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07000"/>
            <a:ext cx="822816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68360" y="6248520"/>
            <a:ext cx="820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22862" h="1694">
                <a:moveTo>
                  <a:pt x="0" y="1693"/>
                </a:moveTo>
                <a:lnTo>
                  <a:pt x="0" y="0"/>
                </a:lnTo>
                <a:lnTo>
                  <a:pt x="22861" y="0"/>
                </a:lnTo>
              </a:path>
            </a:pathLst>
          </a:custGeom>
          <a:noFill/>
          <a:ln w="19080">
            <a:solidFill>
              <a:srgbClr val="cc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172200"/>
            <a:ext cx="8229600" cy="144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7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267920"/>
            <a:ext cx="8228160" cy="48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325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0600" indent="-3492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8120" indent="-3142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79400" indent="-338040">
              <a:spcBef>
                <a:spcPts val="499"/>
              </a:spcBef>
              <a:buClr>
                <a:srgbClr val="3b812f"/>
              </a:buClr>
              <a:buSzPct val="7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79400" indent="-33804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79400" indent="-33804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1219320"/>
            <a:ext cx="7926480" cy="914400"/>
          </a:xfrm>
          <a:custGeom>
            <a:avLst/>
            <a:gdLst/>
            <a:ahLst/>
            <a:rect l="l" t="t" r="r" b="b"/>
            <a:pathLst>
              <a:path w="22016" h="2541">
                <a:moveTo>
                  <a:pt x="0" y="2540"/>
                </a:moveTo>
                <a:lnTo>
                  <a:pt x="0" y="0"/>
                </a:lnTo>
                <a:lnTo>
                  <a:pt x="22015" y="0"/>
                </a:lnTo>
              </a:path>
            </a:pathLst>
          </a:custGeom>
          <a:noFill/>
          <a:ln w="25560">
            <a:solidFill>
              <a:srgbClr val="cc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981080" y="3962520"/>
            <a:ext cx="6512040" cy="144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880"/>
            <a:ext cx="76215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71040" y="1906200"/>
            <a:ext cx="780732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325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0600" indent="-3492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8120" indent="-3142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79400" indent="-338040">
              <a:spcBef>
                <a:spcPts val="499"/>
              </a:spcBef>
              <a:buClr>
                <a:srgbClr val="3b812f"/>
              </a:buClr>
              <a:buSzPct val="7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79400" indent="-33804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79400" indent="-33804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rigutini@dii.unisi.it" TargetMode="External"/><Relationship Id="rId2" Type="http://schemas.openxmlformats.org/officeDocument/2006/relationships/hyperlink" Target="http://www.dii.unisi.it/~rigutini/" TargetMode="External"/><Relationship Id="rId3" Type="http://schemas.openxmlformats.org/officeDocument/2006/relationships/hyperlink" Target="mailto:sarti@dii.unisi.it" TargetMode="External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4360" y="1412640"/>
            <a:ext cx="79912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La lista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1981080" y="3962520"/>
            <a:ext cx="3276720" cy="1752480"/>
            <a:chOff x="1981080" y="3962520"/>
            <a:chExt cx="3276720" cy="1752480"/>
          </a:xfrm>
        </p:grpSpPr>
        <p:sp>
          <p:nvSpPr>
            <p:cNvPr id="83" name=""/>
            <p:cNvSpPr/>
            <p:nvPr/>
          </p:nvSpPr>
          <p:spPr>
            <a:xfrm>
              <a:off x="1981080" y="3962520"/>
              <a:ext cx="3276720" cy="1752480"/>
            </a:xfrm>
            <a:prstGeom prst="roundRect">
              <a:avLst>
                <a:gd name="adj" fmla="val 8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981080" y="3962520"/>
              <a:ext cx="3276720" cy="14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Leonardo Rigutin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Dipartimento Ingegneria dell’Informazion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Università di Sien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Via Roma 56 – 53100 – SIEN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Uff. 0577233606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ccccff"/>
                  </a:solidFill>
                  <a:uFillTx/>
                  <a:latin typeface="Times New Roman"/>
                  <a:hlinkClick r:id="rId1"/>
                </a:rPr>
                <a:t>rigutini@dii.unisi.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ccccff"/>
                  </a:solidFill>
                  <a:uFillTx/>
                  <a:latin typeface="Times New Roman"/>
                  <a:hlinkClick r:id="rId2"/>
                </a:rPr>
                <a:t>http://www.dii.unisi.it/~rigutini/</a:t>
              </a: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5486400" y="4038480"/>
            <a:ext cx="3276720" cy="1752840"/>
            <a:chOff x="5486400" y="4038480"/>
            <a:chExt cx="3276720" cy="1752840"/>
          </a:xfrm>
        </p:grpSpPr>
        <p:sp>
          <p:nvSpPr>
            <p:cNvPr id="86" name=""/>
            <p:cNvSpPr/>
            <p:nvPr/>
          </p:nvSpPr>
          <p:spPr>
            <a:xfrm>
              <a:off x="5486400" y="4038480"/>
              <a:ext cx="3276720" cy="1752840"/>
            </a:xfrm>
            <a:prstGeom prst="roundRect">
              <a:avLst>
                <a:gd name="adj" fmla="val 8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6400" y="4038480"/>
              <a:ext cx="3276720" cy="14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Lorenzo Sart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Dipartimento Ingegneria dell’Informazion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Università di Sien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Via Roma 56 – 53100 – SIEN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Uff. 0577233606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ccccff"/>
                  </a:solidFill>
                  <a:uFillTx/>
                  <a:latin typeface="Times New Roman"/>
                  <a:hlinkClick r:id="rId3"/>
                </a:rPr>
                <a:t>sarti@dii.unisi.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7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6633"/>
                </a:solidFill>
                <a:latin typeface="Garamond"/>
              </a:rPr>
              <a:t>Lista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362800" cy="48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7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equenza di elementi linkati (collegat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7000"/>
              </a:lnSpc>
              <a:spcBef>
                <a:spcPts val="6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7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a classe memorizza il riferimento all’elemento in testa, o a quello in coda o ad entramb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7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a quello/i è possibile accedere ad ogni altro elemento della lista (scansio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7000"/>
              </a:lnSpc>
              <a:spcBef>
                <a:spcPts val="49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116000" y="2349360"/>
            <a:ext cx="41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28600" y="3581280"/>
            <a:ext cx="8915400" cy="32148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447920" y="4952880"/>
            <a:ext cx="914400" cy="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581280" y="5334120"/>
            <a:ext cx="1067040" cy="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562720" y="5334120"/>
            <a:ext cx="1066680" cy="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7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3600" spc="-1" strike="noStrike">
                <a:solidFill>
                  <a:srgbClr val="006633"/>
                </a:solidFill>
                <a:latin typeface="Garamond"/>
              </a:rPr>
              <a:t>Esercizio: parte 1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153280" cy="48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Realizzare una Pila di auto utilizzando una Lista invece che un arr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Analizzare il costo della operazione di inserimento (push) e di eliminazione (po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7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3600" spc="-1" strike="noStrike">
                <a:solidFill>
                  <a:srgbClr val="006633"/>
                </a:solidFill>
                <a:latin typeface="Garamond"/>
              </a:rPr>
              <a:t>Esercizio: parte 2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Realizzare una Coda di auto utilizzando una Lista invece che un arr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Analizzare il costo della operazione di inserimento (push) e di eliminazione (po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7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3600" spc="-1" strike="noStrike">
                <a:solidFill>
                  <a:srgbClr val="006633"/>
                </a:solidFill>
                <a:latin typeface="Garamond"/>
              </a:rPr>
              <a:t>Esercizio: parte 3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8160" cy="48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Modificare eventualmente le due classi precedenti in modo da ottimizzare il costo delle funzioni di inserimento (push) e di eliminazione (po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i aggiunga il riferimento anche all’ultimo elemento della li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rifone</cp:lastModifiedBy>
  <dcterms:modified xsi:type="dcterms:W3CDTF">2007-03-15T13:19:32Z</dcterms:modified>
  <cp:revision>21</cp:revision>
  <dc:subject/>
  <dc:title>Gestione pila</dc:title>
</cp:coreProperties>
</file>