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81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07000"/>
            <a:ext cx="82281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26792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0700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80700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264924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267920"/>
            <a:ext cx="264924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267920"/>
            <a:ext cx="264924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07000"/>
            <a:ext cx="264924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807000"/>
            <a:ext cx="264924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807000"/>
            <a:ext cx="264924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67920"/>
            <a:ext cx="822816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816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08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267920"/>
            <a:ext cx="401508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35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267920"/>
            <a:ext cx="401508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0700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7920"/>
            <a:ext cx="822816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08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26792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520" y="380700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26792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07000"/>
            <a:ext cx="82281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81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07000"/>
            <a:ext cx="82281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26792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0700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520" y="380700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264924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280" y="1267920"/>
            <a:ext cx="264924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1360" y="1267920"/>
            <a:ext cx="264924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07000"/>
            <a:ext cx="264924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280" y="3807000"/>
            <a:ext cx="264924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1360" y="3807000"/>
            <a:ext cx="264924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816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08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267920"/>
            <a:ext cx="401508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35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267920"/>
            <a:ext cx="401508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0700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08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26792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80700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26792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07000"/>
            <a:ext cx="82281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22862" h="1694">
                <a:moveTo>
                  <a:pt x="0" y="1693"/>
                </a:moveTo>
                <a:lnTo>
                  <a:pt x="0" y="0"/>
                </a:lnTo>
                <a:lnTo>
                  <a:pt x="22861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267920"/>
            <a:ext cx="822816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349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8120" indent="-3142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79400" indent="-338040">
              <a:spcBef>
                <a:spcPts val="499"/>
              </a:spcBef>
              <a:buClr>
                <a:srgbClr val="3b812f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79400" indent="-3380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79400" indent="-3380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219320"/>
            <a:ext cx="7926480" cy="914400"/>
          </a:xfrm>
          <a:custGeom>
            <a:avLst/>
            <a:gdLst/>
            <a:ahLst/>
            <a:rect l="l" t="t" r="r" b="b"/>
            <a:pathLst>
              <a:path w="22016" h="2541">
                <a:moveTo>
                  <a:pt x="0" y="2540"/>
                </a:moveTo>
                <a:lnTo>
                  <a:pt x="0" y="0"/>
                </a:lnTo>
                <a:lnTo>
                  <a:pt x="22015" y="0"/>
                </a:lnTo>
              </a:path>
            </a:pathLst>
          </a:custGeom>
          <a:noFill/>
          <a:ln w="255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1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349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8120" indent="-3142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79400" indent="-338040">
              <a:spcBef>
                <a:spcPts val="499"/>
              </a:spcBef>
              <a:buClr>
                <a:srgbClr val="3b812f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79400" indent="-3380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79400" indent="-3380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igutini@dii.unisi.it" TargetMode="External"/><Relationship Id="rId2" Type="http://schemas.openxmlformats.org/officeDocument/2006/relationships/hyperlink" Target="http://www.dii.unisi.it/~rigutini/" TargetMode="External"/><Relationship Id="rId3" Type="http://schemas.openxmlformats.org/officeDocument/2006/relationships/hyperlink" Target="mailto:sarti@dii.unisi.it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9912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ila di Oggetti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raghetto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981080" y="3962520"/>
            <a:ext cx="3275280" cy="1751040"/>
            <a:chOff x="1981080" y="3962520"/>
            <a:chExt cx="3275280" cy="1751040"/>
          </a:xfrm>
        </p:grpSpPr>
        <p:sp>
          <p:nvSpPr>
            <p:cNvPr id="83" name=""/>
            <p:cNvSpPr/>
            <p:nvPr/>
          </p:nvSpPr>
          <p:spPr>
            <a:xfrm>
              <a:off x="1981080" y="3962520"/>
              <a:ext cx="3275280" cy="1751040"/>
            </a:xfrm>
            <a:prstGeom prst="roundRect">
              <a:avLst>
                <a:gd name="adj" fmla="val 8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81080" y="3962520"/>
              <a:ext cx="327528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Leonardo Rigutin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Dipartimento Ingegneria dell’Informazion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Università di Sien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Via Roma 56 – 53100 – SIEN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Uff. 057723360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rigutini@dii.unisi.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http://www.dii.unisi.it/~rigutini/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5486400" y="4038480"/>
            <a:ext cx="3274920" cy="1751040"/>
            <a:chOff x="5486400" y="4038480"/>
            <a:chExt cx="3274920" cy="1751040"/>
          </a:xfrm>
        </p:grpSpPr>
        <p:sp>
          <p:nvSpPr>
            <p:cNvPr id="86" name=""/>
            <p:cNvSpPr/>
            <p:nvPr/>
          </p:nvSpPr>
          <p:spPr>
            <a:xfrm>
              <a:off x="5486400" y="4038480"/>
              <a:ext cx="3274920" cy="1751040"/>
            </a:xfrm>
            <a:prstGeom prst="roundRect">
              <a:avLst>
                <a:gd name="adj" fmla="val 8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6400" y="4038480"/>
              <a:ext cx="327492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Lorenzo Sart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Dipartimento Ingegneria dell’Informazion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Università di Sien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Via Roma 56 – 53100 – SIEN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Uff. 057723360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sarti@dii.unisi.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2924280"/>
            <a:ext cx="8228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t-IT" sz="4400" spc="-1" strike="noStrike">
                <a:solidFill>
                  <a:srgbClr val="000000"/>
                </a:solidFill>
                <a:latin typeface="Arial"/>
              </a:rPr>
              <a:t>I/O in J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I/O in Jav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816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JVM istanzia un’oggetto System che fornisce una serie di strumenti di interfaccia con il S.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andard Output 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ystem.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andard Input 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ystem.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andard Error 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ystem.e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esti appartengono ad apposite classi che forniscono metodi per la lettura e scrittu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out e System.err 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rin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in 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nput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Standard Output/Erro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816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classe PrintStream fornisce una serie di metodi per scrivere dati sullo stre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in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intl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scrivere sullo standard output si usa quindi la funzi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out.printl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scrivere sulllo standard err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err.printl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Standard Inpu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816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classe InputStream fornisce una serie di metodi per leggere dati sullo stre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ad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leggere dati da tastiera (standard input) si utilizza la riga di coman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t System.in.read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esta funzione leege un carattere per volta (int) quindi per leggere una sequenza deve essere inserita in un cic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la conversione da int (char) ad una stringa è necessario utilizzare una variabile temporanea di tipo String a cui viene accodato via via il carattere l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Standard Inpu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816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la conversione d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ad una stringa è necessario utilizzare una variabile temporanea di tipo String a cui viene accodato via via il carattere let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47760" y="2468520"/>
            <a:ext cx="4813560" cy="2838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String leggiDaTastiera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tring s=“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char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=System.in.read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(c!=‘\n’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=s+String.valueOf(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=System.in.read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924280"/>
            <a:ext cx="8228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t-IT" sz="4400" spc="-1" strike="noStrike">
                <a:solidFill>
                  <a:srgbClr val="000000"/>
                </a:solidFill>
                <a:latin typeface="Arial"/>
              </a:rPr>
              <a:t>Generatore Ran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Generatore Random di targh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816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JDK mette a disposizione una classe Random che fornisce alcune funzioni per la generazione di numeri casual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84040" y="2349360"/>
            <a:ext cx="3821760" cy="192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andom R=new Random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ring generaTarga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=R.nextInt(100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ring.valueOf(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Garamond"/>
              </a:rPr>
              <a:t>Pila di interi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6280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ila di inte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li elementi che sono inseriti e tolti dalla pila sono numeri int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ila di Ogget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li elementi inseriti e tolti dalla pila sono oggetti di una classe specific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16000" y="234936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332000" y="2205000"/>
          <a:ext cx="3455640" cy="366840"/>
        </p:xfrm>
        <a:graphic>
          <a:graphicData uri="http://schemas.openxmlformats.org/drawingml/2006/table">
            <a:tbl>
              <a:tblPr/>
              <a:tblGrid>
                <a:gridCol w="497520"/>
                <a:gridCol w="324000"/>
                <a:gridCol w="497520"/>
                <a:gridCol w="497520"/>
                <a:gridCol w="819720"/>
                <a:gridCol w="819360"/>
              </a:tblGrid>
              <a:tr h="106884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332000" y="4581360"/>
          <a:ext cx="4038480" cy="365040"/>
        </p:xfrm>
        <a:graphic>
          <a:graphicData uri="http://schemas.openxmlformats.org/drawingml/2006/table">
            <a:tbl>
              <a:tblPr/>
              <a:tblGrid>
                <a:gridCol w="685800"/>
                <a:gridCol w="684000"/>
                <a:gridCol w="687600"/>
                <a:gridCol w="611280"/>
                <a:gridCol w="684000"/>
                <a:gridCol w="685800"/>
              </a:tblGrid>
              <a:tr h="113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</a:t>
                      </a:r>
                      <a:r>
                        <a:rPr b="0" lang="it-IT" sz="3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</a:t>
                      </a:r>
                      <a:r>
                        <a:rPr b="0" lang="it-IT" sz="3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</a:t>
                      </a:r>
                      <a:r>
                        <a:rPr b="0" lang="it-IT" sz="3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Struttur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816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cettualmente la struttura della classe e le funzioni rimangono uguali, cambiano solamente i tipi di dato con cui lavoria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’ necessario quindi modificare le variabili e le funzioni che in modo che gestiscano oggetti invece che int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Esercizi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816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gettare ed implementare una applicazione che emula un traghetto adibito al trasporto di au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Arial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gettare una semplice classe che rappresenta le auto e memorizza una targa per ogni oggetto Au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Arial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traghetto ha una capienza massima specificata al momento della costru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Arial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 auto imbarcate per ultime sono quelle ad uscire per prime al momento dello sbarco (LIF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AutoNum type="arabicParenR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reare una simulazione di un traghetto di nome Excelsior con capacità massima di 10 auto. All’imbarco esso carica 10 vetture, naviga e poi le sbarca tut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Arial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ogni auto viene stampata la targa al momento dell’imbarco e dello sbar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136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Garamond"/>
              </a:rPr>
              <a:t>1. Creare la classe di oggetti che saranno gestiti nella pila: Car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8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ima di definire una pila per una classe di oggetti è necessario definire tale cla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l nostro esempio creiamo una classe Car che emula una automobile e che memorizza solamente la targa dell’auto per identificare l’ogget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4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257640"/>
            <a:ext cx="5327640" cy="2838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class Car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String id="“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Car(String targa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.id=targ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String toString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urn this.i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136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Garamond"/>
              </a:rPr>
              <a:t>2. Creare una Classe che realizza una pila di Oggetti di tipo Car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816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struttura concettuale della classe è invariata rispetto al caso di una pila di inte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ato che lavoriamo con tipi di dato diversi dagli interi, però, dobbiamo modificare tutte le variabili e le funzioni che sono influenzate da questo fat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omand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ali variabili sono da modific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ali funzioni e come sono da modific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funzioni isFull, isEmpty sono da modific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41400" y="350028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.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ila[]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Car pila[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3. Creare una Classe Traghetto 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816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classe Traghetto avrà, tra le altre, una variabile che realizza il parcheggio per le a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oltre si dovranno prevedere delle funzioni per l’imbarco e lo sbarco delle a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omand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 tipo di Oggetto utilizziamo per tale variabi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 funzioni dobbiamo preved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e le implementiam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4. Creare una semplice applicazion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816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reare una classe che realizza l’applicazione richies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 metodo dobbiamo implementar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ss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Arial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reare un oggetto di tipo Traghetto con una capienza a piac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Arial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mbarcare 10 oggetti di tipo Car nel traghetto, generando ogni volta una Targa random (utilizzare Util.random()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Arial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tampare ad ogni imbarco la targa dell’auto imbarc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Arial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[Simulare la navigazion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Arial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barcare tutte le auto imbar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Arial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 ogni auto che sbarca, stampare la ta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diamo che l’ordine di imbarco è inverso a quello di sbar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5. Modificare l’applicazion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81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ss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51"/>
              </a:spcBef>
              <a:buClr>
                <a:srgbClr val="3b812f"/>
              </a:buClr>
              <a:buSzPct val="60000"/>
              <a:buFont typeface="Arial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iedere all’utente di specificare la capienza (input da tasti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51"/>
              </a:spcBef>
              <a:buClr>
                <a:srgbClr val="3b812f"/>
              </a:buClr>
              <a:buSzPct val="60000"/>
              <a:buFont typeface="Arial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reare un oggetto di tipo Traghetto con tale capie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51"/>
              </a:spcBef>
              <a:buClr>
                <a:srgbClr val="3b812f"/>
              </a:buClr>
              <a:buSzPct val="60000"/>
              <a:buFont typeface="Arial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iedere all’utente quanti oggetti di tipo Car imbarcare (input da tasti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51"/>
              </a:spcBef>
              <a:buClr>
                <a:srgbClr val="3b812f"/>
              </a:buClr>
              <a:buSzPct val="60000"/>
              <a:buFont typeface="Arial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mbarcare tale numero di oggetti di tipo Car nel traghetto, chiedendo ogni volta all’utente di inserire la targa (input da tasti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51"/>
              </a:spcBef>
              <a:buClr>
                <a:srgbClr val="3b812f"/>
              </a:buClr>
              <a:buSzPct val="60000"/>
              <a:buFont typeface="Arial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tampare ad ogni imbarco la targa dell’auto imbarc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51"/>
              </a:spcBef>
              <a:buClr>
                <a:srgbClr val="3b812f"/>
              </a:buClr>
              <a:buSzPct val="60000"/>
              <a:buFont typeface="Arial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[Simulare la navigazion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51"/>
              </a:spcBef>
              <a:buClr>
                <a:srgbClr val="3b812f"/>
              </a:buClr>
              <a:buSzPct val="60000"/>
              <a:buFont typeface="Arial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barcare tutte le auto imbar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51"/>
              </a:spcBef>
              <a:buClr>
                <a:srgbClr val="3b812f"/>
              </a:buClr>
              <a:buSzPct val="60000"/>
              <a:buFont typeface="Arial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 ogni auto che sbarca, stampare la ta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xx</cp:lastModifiedBy>
  <dcterms:modified xsi:type="dcterms:W3CDTF">2006-03-20T12:59:30Z</dcterms:modified>
  <cp:revision>19</cp:revision>
  <dc:subject/>
  <dc:title>Gestione pila</dc:title>
</cp:coreProperties>
</file>