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A6D-BE26-465F-AEAA-F7C71AAF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E89-51F2-490B-A636-BCEF1CD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BD7-7175-4744-9744-8B61164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EF8-625D-418B-AF3C-D84EB47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202-26D3-4F80-B941-1608AE0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55B-8117-46BC-97BD-1E87098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938-DFD5-4D37-B9CE-EBBD75B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D1-AB19-4015-980F-1B6EF88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29F-49F9-4DCE-9071-D0409B7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0DB-E8C4-4C13-A93E-E2D6E9CF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C4B-3D20-4B31-9211-72268361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E3D-5444-4AF9-BEBA-B8E2345B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590920" cy="6858000"/>
            <a:chOff x="0" y="0"/>
            <a:chExt cx="25909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190512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533520"/>
            <a:ext cx="5105160" cy="1066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520" y="6400800"/>
            <a:ext cx="7391520" cy="304920"/>
            <a:chOff x="380520" y="6400800"/>
            <a:chExt cx="7391520" cy="304920"/>
          </a:xfrm>
        </p:grpSpPr>
        <p:sp>
          <p:nvSpPr>
            <p:cNvPr id="7" name=""/>
            <p:cNvSpPr/>
            <p:nvPr/>
          </p:nvSpPr>
          <p:spPr>
            <a:xfrm>
              <a:off x="761760" y="6400800"/>
              <a:ext cx="701028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380160" y="6400800"/>
              <a:ext cx="3934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001000" y="6400800"/>
            <a:ext cx="914400" cy="303120"/>
          </a:xfrm>
          <a:prstGeom prst="roundRect">
            <a:avLst>
              <a:gd name="adj" fmla="val 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707960" y="6346800"/>
            <a:ext cx="148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ED9-76F1-4615-982A-1DF4291ED66C}" type="slidenum">
              <a:rPr b="1" lang="it-IT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5396040"/>
            <a:ext cx="4876920" cy="318960"/>
            <a:chOff x="3632040" y="539604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53960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53960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9F2F-AD81-4458-9AB5-D9221C90BDA1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Progettini: rego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gni progetto deve essere accompagnato da una documentazione (poche pagi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codice sorgente deve essere comment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erra inoltre valuta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’organizzazione (modularizzazione) del software in librerie, classi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complessità del problema che si è affrontato e il numero delle persone che hanno partecipato al proge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correttezza dell’uso dei costrutti di programmazione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Progettini: esemp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 programma per giocare a dama, schacchi, carte, forza 4, ....: deve includ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a buona interfaccia gra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eve essere possibile giocare con il computer (che può adottare una strategia anche banale, ad es. a briscola prendo tutte le volte che posso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 programma per un gioco da tavolo: monopoli, .....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i si può limitare ad implementare parzialmente le regole del gio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eve essere possibile giocare con il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Progettini: esemp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struire un’applicazione per la gestione di un’archivio (ad. es., una biblioteca, una scuola, il palio, .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’archivio deve essere gestito da un DBMS SQL e contenere almeno 4-5 tabelle collegate fra di lo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’interfaccia deve controllare i dati inseriti dall’utente (date di nascita,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’interfaccia deve permettere la visualizzazione e lamodifica dei d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Progettini: esemp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tre applicazioni che comunque comporti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’interfaccia non  banale e costituita da più finest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 alcune fra le segu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’uso di alcune strutture dati (tabelle hash, alberi ordinati,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’uso di funzionalità particolari di Java (per le quali lo studente debba leggere la documentazione): es. esecuzione di thread, accesso ad un DBMs, esecuzione di servlet,  interazione di più istanze del programma attraverso la rete, 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’implementazione di algoritmi non  banali (per le quali lo studente debba studiare un pò): algoritmo dei cammini minimi,  algoritmi che risolvono problemi usando euristiche,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23:47Z</dcterms:created>
  <dc:creator>Fabrizio</dc:creator>
  <dc:description/>
  <dc:language>en-US</dc:language>
  <cp:lastModifiedBy>a</cp:lastModifiedBy>
  <dcterms:modified xsi:type="dcterms:W3CDTF">2005-02-08T02:05:03Z</dcterms:modified>
  <cp:revision>512</cp:revision>
  <dc:subject/>
  <dc:title>Presentazione di PowerPoint</dc:title>
</cp:coreProperties>
</file>