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828-4150-4266-9F15-2017ACB6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A57-41FA-44A5-83F7-36EFF4ED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3B3-911E-4044-B740-B6CBF979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578-4F66-4944-83EE-C0951936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64A-F7E4-497D-8381-022E0C9E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90920" y="68400"/>
            <a:ext cx="6324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AD0-4959-4D71-B616-6E21A8FD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588-FCEB-4EB1-85E6-808A693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655-078F-4A48-8B3A-3E5AAF3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03C-5973-4C68-999A-8107F85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CBD-77AE-4109-BB1C-D1AE2035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F44-BF5E-4D69-A99A-ECBAA1D1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07E-3969-4667-A724-F0C00D62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90920" y="68400"/>
            <a:ext cx="6324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590920" cy="6858000"/>
            <a:chOff x="0" y="0"/>
            <a:chExt cx="25909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190512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533520"/>
            <a:ext cx="5105160" cy="1066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0520" y="6400800"/>
            <a:ext cx="7391520" cy="304920"/>
            <a:chOff x="380520" y="6400800"/>
            <a:chExt cx="7391520" cy="304920"/>
          </a:xfrm>
        </p:grpSpPr>
        <p:sp>
          <p:nvSpPr>
            <p:cNvPr id="7" name=""/>
            <p:cNvSpPr/>
            <p:nvPr/>
          </p:nvSpPr>
          <p:spPr>
            <a:xfrm>
              <a:off x="761760" y="6400800"/>
              <a:ext cx="701028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380160" y="6400800"/>
              <a:ext cx="39348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001000" y="6400800"/>
            <a:ext cx="914400" cy="303120"/>
          </a:xfrm>
          <a:prstGeom prst="roundRect">
            <a:avLst>
              <a:gd name="adj" fmla="val 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707960" y="6346800"/>
            <a:ext cx="148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E83A-A1DB-46BC-92E1-D5AA46537F62}" type="slidenum">
              <a:rPr b="1" lang="en-US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5396040"/>
            <a:ext cx="4876920" cy="318960"/>
            <a:chOff x="3632040" y="539604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53960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53960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73CC-7DBF-438B-AE19-F35AADF540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ercizio: un programma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e gioca pok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57600" y="3433320"/>
            <a:ext cx="3657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alisi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 intende realizzare un programma Java con il quale sia possibile simulare una partita a poker  di  4 gioc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l progetto prevede che i giocatori siano tutti simulati dal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 giocatori adotteranno una strategia completamente casuale gettando sul tavolo una qualsiasi delle proprie c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'interfaccia deve mostrare le azioni dei giocatori, le carte che essi possiedono e le carte in tav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' sufficiente una intefaccia testu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alisi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 deve realizzare il progetto supponendo che il programma sia solo un primo modulo di un software più complesso nel  quale si possa giocare a giochi divers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ossibili estens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tri giochi;  tre sette, bridìscola, ramino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umero diverso di giocato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terfaccia gra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arte diverse: napoletane, carte da 52 carte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cuni giocatori sono realizzati da utenti del program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iocatori automatici capaci di usare strategie non casuali per scegliere le carte da gioc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 concetti coinvol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2952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 concetti da modellare so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 ca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l mazzo di ca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 giocator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 gioc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 parti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 classi e i metod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a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etSeme(), getNumero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zzoDiCarte (modella un mazzo generic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ischia(), prendiCarta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zzoDa40Car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zzoDa52C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iocatoreAstra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sserva(Mossa ms), giocaCarte() , prendiCarte(HashSet Car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iocatoreDiPokerAstra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ecidiPuntata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GiocaoreDiPo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 classi e i metod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ossa (modella le mosse posslbili dei giocatori, passare, rilanciare, vedere,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etQuantita(), getTipo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artitaDiPoker </a:t>
            </a:r>
            <a:br>
              <a:rPr sz="2400"/>
            </a:b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(modella una partita e contiene i giocatori, il mazzo, il piatto,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09:23:47Z</dcterms:created>
  <dc:creator>Fabrizio</dc:creator>
  <dc:description/>
  <dc:language>en-US</dc:language>
  <cp:lastModifiedBy>franco</cp:lastModifiedBy>
  <dcterms:modified xsi:type="dcterms:W3CDTF">2003-06-12T17:11:04Z</dcterms:modified>
  <cp:revision>439</cp:revision>
  <dc:subject/>
  <dc:title>Presentazione di PowerPoint</dc:title>
</cp:coreProperties>
</file>