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79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79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679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679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igutini@dii.unisi.it" TargetMode="External"/><Relationship Id="rId2" Type="http://schemas.openxmlformats.org/officeDocument/2006/relationships/hyperlink" Target="http://www.dii.unisi.it/~rigutini/" TargetMode="External"/><Relationship Id="rId3" Type="http://schemas.openxmlformats.org/officeDocument/2006/relationships/hyperlink" Target="http://www.dii.unisi.it/~rigutini/" TargetMode="External"/><Relationship Id="rId4" Type="http://schemas.openxmlformats.org/officeDocument/2006/relationships/hyperlink" Target="http://www.dii.unisi.it/~rigutini/" TargetMode="External"/><Relationship Id="rId5" Type="http://schemas.openxmlformats.org/officeDocument/2006/relationships/hyperlink" Target="mailto:sarti@dii.unisi.it" TargetMode="Externa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991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33"/>
                </a:solidFill>
                <a:latin typeface="Garamond"/>
              </a:rPr>
              <a:t>Programmare in JAV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1080" y="3975120"/>
            <a:ext cx="327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Leonardo Rigutin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Dipartimento Ingegneria dell’Informazi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Università di Sie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Via Roma 56 – 53100 – SIE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Uff. 05772336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rigutini@dii.unisi.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dii.unisi.it/</a:t>
            </a:r>
            <a:r>
              <a:rPr b="0" lang="en-US" sz="13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~</a:t>
            </a:r>
            <a:r>
              <a:rPr b="0" lang="it-IT" sz="13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rigutini/</a:t>
            </a: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486400" y="4051440"/>
            <a:ext cx="327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Lorenzo Sart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Dipartimento Ingegneria dell’Informazi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Università di Sie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Via Roma 56 – 53100 – SIE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Uff. 05772336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sarti@dii.unisi.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Classpath in JVM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4" descr="java"/>
          <p:cNvPicPr/>
          <p:nvPr/>
        </p:nvPicPr>
        <p:blipFill>
          <a:blip r:embed="rId1"/>
          <a:stretch/>
        </p:blipFill>
        <p:spPr>
          <a:xfrm>
            <a:off x="539640" y="907920"/>
            <a:ext cx="6481800" cy="5580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324000" y="2338560"/>
            <a:ext cx="612108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306864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Regole di base di JAV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826920" y="4292640"/>
            <a:ext cx="6193080" cy="172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Regole di base – 1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ava, come quasi tutti i linguaggi di programmazione di alto livello è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se-sensitiv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distingue cioè le lettere minuscole da quelle maiusco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variabi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m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quindi divers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consigliato inserire delle linee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rendere il codice più leggibile e comprensibile (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commentare il codi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equenz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mette di commentare la parte di riga rima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elimitator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*/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mettono di commentare tutto ciò che è compreso tra queste due sequenze di caratt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 a=3; </a:t>
            </a:r>
            <a:r>
              <a:rPr b="0" lang="it-IT" sz="1800" spc="-1" strike="noStrike">
                <a:solidFill>
                  <a:srgbClr val="00cc00"/>
                </a:solidFill>
                <a:latin typeface="Arial"/>
              </a:rPr>
              <a:t>// questa parte finale della riga è commen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cc00"/>
                </a:solidFill>
                <a:latin typeface="Arial"/>
              </a:rPr>
              <a:t>/* commento 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cc00"/>
                </a:solidFill>
                <a:latin typeface="Arial"/>
              </a:rPr>
              <a:t>pi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cc00"/>
                </a:solidFill>
                <a:latin typeface="Arial"/>
              </a:rPr>
              <a:t>righ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651720" y="6402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Regole di base – 2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str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istruzione termina con un ‘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;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locchi di co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blocco di codice (sequenza di una o più istruzioni da eseguire in blocco) è racchiuso tra parentesi graffe: ‘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{ }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m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singola istruzione per r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pertura di un blocco vien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dent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rendere più chiara la struttura del blo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87280" y="4005360"/>
            <a:ext cx="5604120" cy="2346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HelloWorl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ublic static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// visualizza un messaggio di sal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ystem.out.println(“Hello Worl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!!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Facciamo un esemp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960" y="105228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rivere un applicazione di benvenu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osiddetto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Hello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iziamo col creare un fi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elloWorld.jav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il notepad (o qualsiasi altro editor di te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riviamo il codice per la nostra applic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tilizziamo lo script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JavaEnvStar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Questo script setta le variabili di ambiente JAVAHOME e PATH in modo cha sia possibile utilizzare javac.exe e java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888840" y="3168720"/>
            <a:ext cx="561672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ublic static voi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“Hello World!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Facciamo un esemp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iamo lo script nella directory dove abbiamo salvato il fi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elloWorld.jav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d avviamo il prompt di MS-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giti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javac HelloWorld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vediamo che viene creato il fi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elloWorld.clas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proviamo ad aprire il fi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elloWorld.class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un editor di testo (notepad), vediamo una sequenza di caratteri incomprensib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ytecod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nostra prima applicazione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esso chiamiamo la JVM per eseguire la nostra clas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java Hello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Facciamo un esemp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tteniamo però un err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eption in thread "main" java.lang.NoClassDefFoundError: Hello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sa vuol dire? La JVM non trova la class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elloWorl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cui deve lanciare la funzion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se vuole il nome del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java HelloWorld.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tteniamo ancora un errore sim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ception in thread "main" java.lang.NoClassDefFoundError: HelloWorld/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JVM ancora non trova la class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elloWorld/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ve è il problem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Facciamo un esemp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problema sta nel fatto che la JVM cerca la class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elloWorld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ossia il fi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elloWorld.clas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nei percorsi specificati dalla variabile di sistema CLASSPA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sta variabile non contiene però il percorso dove si trov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elloWorld.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necessario quindi specificare alla JVM che cerchi il file (o meglio la classe) anche nella directory corr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java –cp . Hello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esso funziona tutto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Facciamo un esemp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viamo adesso a rinominare la funzion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in(String[] args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un(String[] args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compiliamo di nuo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adesso nessun problema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javac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nera il fi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elloWorld.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viamo a lanciar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elloWorld.clas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java –cp . Hello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vviamente otteniamo un err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 in thread "main" java.lang.NoSuchMethodError: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ché OVVIAMENTE ? Che errore si verific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Facciamo un esemp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ggendo attentamente il messaggio di errore si vede che la JVM ci sta dicendo che non trova il metod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metod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un oggetto, come detto, contiene il corpo principale dell’applicazione rappresentata dall’oggetto st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si invia un oggetto alla JVM, quest’ultima prova a lanciare il metod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ad eseguire quindi l’oggetto come se fosse un applic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tale metodo non esiste, la JVM ritorna un errore del tipo visto p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Scrivere un programma in Jav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caratteristica che ha reso popolare il Java è quella di essere indipendente dal S.O. in cui un programma è compilato. Ma come è resa possibile questa co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compilatore Java produce un codice che non è il codice binario finale, ma un codice binario intermedio chiamat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ytecod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indipendente dall’architet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codice intermedio è interpretato da una “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macchina virtu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” che lo traduce in istruzioni mac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Java Virtual Machine (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JVM ha bisogno di conoscere il SO su cui sta girando. La Sun mette a disposizione JVM per tutti i sistemi operativ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indows, Linux, Unix, Mac ec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06864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ID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Garamond"/>
              </a:rPr>
              <a:t>Integrated Development Environment (IDE)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093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IDE è una applicazione grafica che fornisce al programmatore un ambiente di sviluppo completo ma al tempo stesso semplice e chi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mite una interfaccia grafica (GUI) è possibile costruire il progetto, tenere sotto controllo le varie parti, effettuare il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debuggi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molto altro anc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più comuni ambienti di sviluppo Java so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Builder – della Borland, a pagamento, ma è disponibile una versione free (chiamat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unda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tBeans – della SunMicrosystem, free scaricabile dal sito www.j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clipse – della Eclipse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Garamond"/>
              </a:rPr>
              <a:t>Integrated Development Environment (IDE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uso dei programmi da linea di comando javac e java viene “nascosto” dalla 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ilando il progetto, il software passa al compilatore tutti i files necessari e genera i fi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che l’esecuzione del programma è gestita dall’interfaccia e richiede solamente di specificare quale funzione main() eseg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che la gestione de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de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lasspat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gestibile attraverso l’interfaccia graf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rrente è automaticamente inserito n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lass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giungendo librerie automaticamente viene aggiunto il percorso a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lass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Netbeans</a:t>
            </a: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mbiente che utilizzeremo è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tbean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ma tutto ciò che viene fatto è facilmente trasportabile su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builder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 su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ltre alla libreria standard del Java, ogni IDE può mettere a disposizione librerie proprietarie da utilizzare nel proget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sempre consigliato dato che una caratteristica molto importante del Java è quella della trasferibilità del codice e molte volte l’uso di librerie proprietarie può limitare questa possi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Netbeans mette a disposizione una gran quantità di tipologie di proget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mite un wizard è possibile scegliere il tipo di progetto, specificarne i parametri ed iniziare a program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Esemp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979200"/>
            <a:ext cx="790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viamo adesso a creare una applicazion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elloWorl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utilizzando Netb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ima di tutto avviamo Netb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riamo il menù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selezioniamo N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w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iamo creare direttamente una classe o un progetto. Nel primo caso, viene richiesto comunque di creare un progetto per la cla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volta scelto il nome del progetto e dove salvarlo passiamo alla creazione guidata della c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viene chiesto il nome della classe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elloWorl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ed il pack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adesso ignoriamo il package (lasciamo bianco il campo del pack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tiamo l’opzione “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enerate main metho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” che permette di generare uno “scheletro” per la funzion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l’interno della c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Esemp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seriamo il codice Java nel fi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elloWorld.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esso possiamo compilare ed eseguire l’applic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mite il menù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run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guiamo l’appl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tiamo la possibilità di eseguire l’applicazione anche in modalità “Debu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900000" y="1844640"/>
            <a:ext cx="561672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ublic static voi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“Hello World!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Esemp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la finestra in basso vedremo visualizzato l’output dell’appl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possibile verificare che anche in questo caso, rinominando la funzion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in(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 qualsiasi altro modo (anche Main()), il compilatore restituisce un err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306864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Debug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Debug in Netbean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IDE permette di effettuare un’operazione molto utile al programm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ovare i punti in cui il programma si comporta in maniera differente da quello che il creatore si aspettava è un lavoro molto difficile e costo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bug a run-time permette di impostare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reak-poin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reak-point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unto del programma in cui si desidera fermare il flusso delle istruzioni per verificare ed ispezionare lo stato dell’appl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Breakpoin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iene selezionata la riga di codice in cui si desidera interrompere il progra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l’esecuzione del programma raggiunge tale riga di codice, l’IDE interrompe l’esecuzione e permette all’utente di interagire con il program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esempio la lettura di alcuni valori attuali dell’appl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volta terminata la verifica è possibile “continuare” fino al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reak-poin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uccessivo o fino alla terminazione dell’appl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oltre, esiste la possibilità di eseguire l’applicazion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sso-passo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questo caso l’ambiente si ferma ad ogni istr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Scrivere un programma in Jav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definitiva, scrivere un programma Java vuole dire creare un file di testo contenente del codice sorgente Ja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file per ogni c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file così creato ha estension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.jav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deve essere elaborato dal compilatore Jav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avac xxx.java </a:t>
            </a: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xxx.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compliatore crea un fi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.class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lo stesso nome dell’originario, che contiene i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ytecod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la J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ava xxx </a:t>
            </a: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esecuzione del main della classe xxx.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Esemp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prendiamo l’applicazione Hello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seriamo una nuova istruzi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 : una istruzione di assegnamento ad una variabile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 =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seriamo u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reak-poin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 corrispondenza dell’istruzione succes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nciamo l’applicazione in modalità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Immagine 2.png"/>
          <p:cNvPicPr/>
          <p:nvPr/>
        </p:nvPicPr>
        <p:blipFill>
          <a:blip r:embed="rId1"/>
          <a:stretch/>
        </p:blipFill>
        <p:spPr>
          <a:xfrm>
            <a:off x="1371600" y="2639880"/>
            <a:ext cx="6553080" cy="1779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Immagine 3.png"/>
          <p:cNvPicPr/>
          <p:nvPr/>
        </p:nvPicPr>
        <p:blipFill>
          <a:blip r:embed="rId2"/>
          <a:stretch/>
        </p:blipFill>
        <p:spPr>
          <a:xfrm>
            <a:off x="1371600" y="4876920"/>
            <a:ext cx="4343400" cy="876240"/>
          </a:xfrm>
          <a:prstGeom prst="rect">
            <a:avLst/>
          </a:prstGeom>
          <a:ln w="0">
            <a:noFill/>
          </a:ln>
        </p:spPr>
      </p:pic>
      <p:cxnSp>
        <p:nvCxnSpPr>
          <p:cNvPr id="161" name="Straight Arrow Connector 11"/>
          <p:cNvCxnSpPr/>
          <p:nvPr/>
        </p:nvCxnSpPr>
        <p:spPr>
          <a:xfrm flipH="1" flipV="1">
            <a:off x="2894760" y="5257080"/>
            <a:ext cx="381960" cy="6102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Esemp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diamo che l’esecuzione si interrompe alla linea di codice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i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reak-poin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questo punto è possib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pezionare i contenuti dell’ogg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Immagine 8.png"/>
          <p:cNvPicPr/>
          <p:nvPr/>
        </p:nvPicPr>
        <p:blipFill>
          <a:blip r:embed="rId1"/>
          <a:stretch/>
        </p:blipFill>
        <p:spPr>
          <a:xfrm>
            <a:off x="2057400" y="4495680"/>
            <a:ext cx="6515280" cy="1587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Immagine 5.png"/>
          <p:cNvPicPr/>
          <p:nvPr/>
        </p:nvPicPr>
        <p:blipFill>
          <a:blip r:embed="rId2"/>
          <a:stretch/>
        </p:blipFill>
        <p:spPr>
          <a:xfrm>
            <a:off x="3124080" y="1690560"/>
            <a:ext cx="5715000" cy="2119320"/>
          </a:xfrm>
          <a:prstGeom prst="rect">
            <a:avLst/>
          </a:prstGeom>
          <a:ln w="0">
            <a:noFill/>
          </a:ln>
        </p:spPr>
      </p:pic>
      <p:sp>
        <p:nvSpPr>
          <p:cNvPr id="166" name="Line 8"/>
          <p:cNvSpPr/>
          <p:nvPr/>
        </p:nvSpPr>
        <p:spPr>
          <a:xfrm flipH="1" flipV="1">
            <a:off x="5181480" y="5791320"/>
            <a:ext cx="14472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Esemp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tere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watch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ulle varia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Immagine 9.png"/>
          <p:cNvPicPr/>
          <p:nvPr/>
        </p:nvPicPr>
        <p:blipFill>
          <a:blip r:embed="rId1"/>
          <a:stretch/>
        </p:blipFill>
        <p:spPr>
          <a:xfrm>
            <a:off x="2362320" y="1600200"/>
            <a:ext cx="4697280" cy="2698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Immagine 10.png"/>
          <p:cNvPicPr/>
          <p:nvPr/>
        </p:nvPicPr>
        <p:blipFill>
          <a:blip r:embed="rId2"/>
          <a:stretch/>
        </p:blipFill>
        <p:spPr>
          <a:xfrm>
            <a:off x="1447920" y="5410080"/>
            <a:ext cx="6426000" cy="1054080"/>
          </a:xfrm>
          <a:prstGeom prst="rect">
            <a:avLst/>
          </a:prstGeom>
          <a:ln w="0">
            <a:noFill/>
          </a:ln>
        </p:spPr>
      </p:pic>
      <p:sp>
        <p:nvSpPr>
          <p:cNvPr id="171" name="Down Arrow 8"/>
          <p:cNvSpPr/>
          <p:nvPr/>
        </p:nvSpPr>
        <p:spPr>
          <a:xfrm>
            <a:off x="4038480" y="4495680"/>
            <a:ext cx="914400" cy="6858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db85"/>
              </a:gs>
              <a:gs pos="100000">
                <a:srgbClr val="eba800"/>
              </a:gs>
            </a:gsLst>
            <a:lin ang="5400000"/>
          </a:gradFill>
          <a:ln w="9360">
            <a:solidFill>
              <a:srgbClr val="cc98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Esempi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5680" y="980640"/>
            <a:ext cx="830268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fine è possibile “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continuare” l’applicazione (F5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fino ad un successiv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break-poin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 alla fine, </a:t>
            </a: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andare avanti passo-passo (F8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entrare all’interno della funzione corrente(F7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ec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5"/>
          <p:cNvGrpSpPr/>
          <p:nvPr/>
        </p:nvGrpSpPr>
        <p:grpSpPr>
          <a:xfrm>
            <a:off x="2895480" y="3886200"/>
            <a:ext cx="2690640" cy="2104560"/>
            <a:chOff x="2895480" y="3886200"/>
            <a:chExt cx="2690640" cy="2104560"/>
          </a:xfrm>
        </p:grpSpPr>
        <p:sp>
          <p:nvSpPr>
            <p:cNvPr id="175" name="Line 9"/>
            <p:cNvSpPr/>
            <p:nvPr/>
          </p:nvSpPr>
          <p:spPr>
            <a:xfrm flipH="1">
              <a:off x="4866840" y="4190760"/>
              <a:ext cx="719280" cy="0"/>
            </a:xfrm>
            <a:prstGeom prst="line">
              <a:avLst/>
            </a:prstGeom>
            <a:ln w="5724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 flipH="1">
              <a:off x="4866840" y="4647960"/>
              <a:ext cx="719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>
              <a:off x="3276360" y="5486040"/>
              <a:ext cx="0" cy="504720"/>
            </a:xfrm>
            <a:prstGeom prst="line">
              <a:avLst/>
            </a:prstGeom>
            <a:ln w="5724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4105080" y="5486040"/>
              <a:ext cx="0" cy="504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3"/>
            <p:cNvSpPr/>
            <p:nvPr/>
          </p:nvSpPr>
          <p:spPr>
            <a:xfrm flipH="1">
              <a:off x="4866840" y="3886200"/>
              <a:ext cx="71928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895480" y="5486040"/>
              <a:ext cx="0" cy="5047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Picture 14" descr="Immagine 11.png"/>
          <p:cNvPicPr/>
          <p:nvPr/>
        </p:nvPicPr>
        <p:blipFill>
          <a:blip r:embed="rId1"/>
          <a:stretch/>
        </p:blipFill>
        <p:spPr>
          <a:xfrm>
            <a:off x="2057400" y="1905120"/>
            <a:ext cx="2763720" cy="3352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Immagine 12.png"/>
          <p:cNvPicPr/>
          <p:nvPr/>
        </p:nvPicPr>
        <p:blipFill>
          <a:blip r:embed="rId2"/>
          <a:stretch/>
        </p:blipFill>
        <p:spPr>
          <a:xfrm>
            <a:off x="1905120" y="6019920"/>
            <a:ext cx="295884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avac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av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forniti con l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tribuzione Java (JD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403280" y="1455840"/>
            <a:ext cx="561672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elloWorl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ublic static voi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ain(String[] arg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ystem.out.println(“Hello World!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922560" y="2968560"/>
            <a:ext cx="432000" cy="576360"/>
          </a:xfrm>
          <a:prstGeom prst="downArrow">
            <a:avLst>
              <a:gd name="adj1" fmla="val 50000"/>
              <a:gd name="adj2" fmla="val 3335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490920" y="3616200"/>
            <a:ext cx="1295280" cy="8384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849640" y="3328920"/>
            <a:ext cx="1107360" cy="13107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010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110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11101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10101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1110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4930920" y="3760920"/>
            <a:ext cx="792000" cy="503280"/>
          </a:xfrm>
          <a:prstGeom prst="rightArrow">
            <a:avLst>
              <a:gd name="adj1" fmla="val 50000"/>
              <a:gd name="adj2" fmla="val 3934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712680" y="44798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jav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266440" y="5345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5869080" y="5199120"/>
            <a:ext cx="1143000" cy="53352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227640" y="4624560"/>
            <a:ext cx="432000" cy="5760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5869080" y="296856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byt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161520" y="10526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elloWorld.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940080" y="371628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elloWorld.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981000" y="4797360"/>
            <a:ext cx="7274160" cy="129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javac.exe e java.ex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niti con la distribuzione Java della SU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JD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pendono dall’architett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necessario utilizzare il JDK per Windows se si usa Windows, ugualmente per Linux, Mac, ec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applicazioni lanciate dall’utente dalla shell dei comandi (prompt di MS-DOS per utenti Windows) oppure dall’ambiente di sviluppo grafico utilizz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vono essere nel path di ricerca del S.O.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. in wind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%path%;C:\Programmi\Java\j2re1.4.2_04;C:\Programmi\Java\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2re1.4.2_04\b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JAVAHOME=C:\Programmi\Java\j2re1.4.2_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javac.ex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5" descr="javac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java.ex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Picture 4" descr="java"/>
          <p:cNvPicPr/>
          <p:nvPr/>
        </p:nvPicPr>
        <p:blipFill>
          <a:blip r:embed="rId1"/>
          <a:stretch/>
        </p:blipFill>
        <p:spPr>
          <a:xfrm>
            <a:off x="539640" y="979560"/>
            <a:ext cx="7417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CLASSPAT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creiamo una classe Java, affinché sia utilizzabile è necessario che il nome del file sia lo stesso del nome della clas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class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v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va quindi salvata in un fi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va.jav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compilata nel fi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va.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ompilato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java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i occupa di generare il fi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clas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n il nome del fi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jav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he gli viene fornito come parametro di ingr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fi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.clas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ve poi essere presente ne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lasspat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la macchina virtuale, altrimenti non sarà trovato. E’ possibile specificare il classpath, come opzione, quando viene eseguita la JV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java.exe –classpath [PATH1;PATH2;…;PATHn] file.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alternativa si può definire una variabile di sistem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LASSPAT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a cui il compilatore e la JVM leggono automaticamente i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33"/>
                </a:solidFill>
                <a:latin typeface="Garamond"/>
              </a:rPr>
              <a:t>Classpath in javac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Picture 4" descr="javac"/>
          <p:cNvPicPr/>
          <p:nvPr/>
        </p:nvPicPr>
        <p:blipFill>
          <a:blip r:embed="rId1"/>
          <a:stretch/>
        </p:blipFill>
        <p:spPr>
          <a:xfrm>
            <a:off x="324000" y="1052640"/>
            <a:ext cx="8569080" cy="4608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468360" y="2782800"/>
            <a:ext cx="7200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7:10:24Z</dcterms:created>
  <dc:creator>xxx</dc:creator>
  <dc:description/>
  <dc:language>en-US</dc:language>
  <cp:lastModifiedBy>id503</cp:lastModifiedBy>
  <dcterms:modified xsi:type="dcterms:W3CDTF">2008-02-05T17:34:39Z</dcterms:modified>
  <cp:revision>67</cp:revision>
  <dc:subject/>
  <dc:title>Laboratorio Java</dc:title>
</cp:coreProperties>
</file>